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3A7-8A65-4F3A-B4EA-2B0031BF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DC8-29EA-43BF-A3FA-6F6B0F1E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D1F-759D-489B-96E6-E2D51399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E7E-694A-457E-A35D-20DE2BE1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10F3-0E26-4B8A-AA32-93F82069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EDE7-0302-4395-83AB-D0F0229B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81ED-182F-4B81-A28B-C4E5AA19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2A45-896B-49DA-90D8-26329E63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F571-7CB5-44FA-A3CC-3639765D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31EC-34BD-4120-ABA1-2B1F48FB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5302-98B1-49CD-84E0-CA82AFE7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4EA4-861B-40CD-B589-28DBF232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0A0E-17B7-4A06-9453-2DE78462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C470-68BF-4C01-ADFB-A7CD730C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B2F3-7061-46A7-8EE7-78AB053A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5AF7-9D30-4648-ACAE-CF9FE8EB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C492-B365-4255-A05B-DBBF5E0D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1456-B447-4290-86A6-A6C8A8C4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901E-B989-4244-B1E4-782919C9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49A-1A3C-45A4-8776-08B60ADE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0E3-269E-48F9-8527-043BFB6F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5A5-497C-4DA2-A1B2-5B3C9A4B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8FAC-7A13-45D1-9CD9-60F18B38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D7C0-14D0-4687-AFCF-2971BC8B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6CA8-FC7B-464A-91FD-866BFB283CC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125C-42F3-405B-B015-A61C0A79411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tlantic Economy and the Slave Tra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bjectiv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nderstand how the Atlantic Economy functio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nderstand how European diplomacy affected the rest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nderstand the slave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ercantilism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economic system of the eighteenth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ation’s wealth based on gold and si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ies gained colonies for natural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nies can only trade with mother 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pread of Colonial Empi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in and Portugal in Latin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xico, Peru, Braz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tain in North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teen Colo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nce in North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bec, Louis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pread of Colonial Empi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 in Europe led to war in the colo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conflicts between Britain and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nch and Indian War results in Britain controlling North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nses from the war leads to American R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lonial Econom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canti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nies furnish raw materials to home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country sells back manufactured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country has monopoly on colonial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s from other countries highly 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d smugg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lave Tra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introduced to the Americas by Spanish and Portugu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very introduced to English colonies in 16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ves captured from Africa and traveled in Middle Passage to new world to be s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lave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ves worked on plant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ar, tobacco, indi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ve societies highly strat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ves had few rights, if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peans believed they did African slaves a “favo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cantilism the major economic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reserves of gold and si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nies need to furnish raw materials to home 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 country provided manufactured g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very required to maintain mercantlis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08:23:29Z</dcterms:created>
  <dc:creator>Roger W. Knipp</dc:creator>
  <dc:description/>
  <dc:language>en-US</dc:language>
  <cp:lastModifiedBy>Roger W. Knipp</cp:lastModifiedBy>
  <dcterms:modified xsi:type="dcterms:W3CDTF">2005-03-09T08:31:20Z</dcterms:modified>
  <cp:revision>3</cp:revision>
  <dc:subject/>
  <dc:title>The Atlantic Economy and the Slave Trade</dc:title>
</cp:coreProperties>
</file>